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6520" y="698400"/>
            <a:ext cx="458496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6FB2-2163-472D-AAF5-6F6396631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6520" y="698400"/>
            <a:ext cx="458496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6520" y="698400"/>
            <a:ext cx="4584960" cy="3492720"/>
          </a:xfrm>
          <a:prstGeom prst="rect">
            <a:avLst/>
          </a:prstGeom>
          <a:ln w="0">
            <a:noFill/>
          </a:ln>
        </p:spPr>
      </p:sp>
      <p:sp>
        <p:nvSpPr>
          <p:cNvPr id="14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he best idea yet.  You, personally, will lead a team of negotiators, to the Human’s capitol city, Roswell New Mexico.  You will bring your own dictobobitaries.   You will negotiate with the humans and show them the error of their ways.  What could go wro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6520" y="698400"/>
            <a:ext cx="4584960" cy="3492720"/>
          </a:xfrm>
          <a:prstGeom prst="rect">
            <a:avLst/>
          </a:prstGeom>
          <a:ln w="0">
            <a:noFill/>
          </a:ln>
        </p:spPr>
      </p:sp>
      <p:sp>
        <p:nvSpPr>
          <p:cNvPr id="15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ter has a good idea.  Perhaps it could be built upon to actually sell the humans something that would cause them not to build a solarbinite devic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6520" y="698400"/>
            <a:ext cx="4584960" cy="3492720"/>
          </a:xfrm>
          <a:prstGeom prst="rect">
            <a:avLst/>
          </a:prstGeom>
          <a:ln w="0">
            <a:noFill/>
          </a:ln>
        </p:spPr>
      </p:sp>
      <p:sp>
        <p:nvSpPr>
          <p:cNvPr id="15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is insane.  He would actually destroy the planet with our </a:t>
            </a:r>
            <a:r>
              <a:rPr b="0" i="1" lang="en-US" sz="1200" spc="-1" strike="noStrike">
                <a:solidFill>
                  <a:srgbClr val="000000"/>
                </a:solidFill>
                <a:latin typeface="Arial"/>
              </a:rPr>
              <a:t>only</a:t>
            </a:r>
            <a:r>
              <a:rPr b="0" lang="en-US" sz="1200" spc="-1" strike="noStrike">
                <a:solidFill>
                  <a:srgbClr val="000000"/>
                </a:solidFill>
                <a:latin typeface="Arial"/>
              </a:rPr>
              <a:t> Planet Buster Bomb!  You cannot allow this plan to even be consider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6520" y="698400"/>
            <a:ext cx="4584960" cy="3492720"/>
          </a:xfrm>
          <a:prstGeom prst="rect">
            <a:avLst/>
          </a:prstGeom>
          <a:ln w="0">
            <a:noFill/>
          </a:ln>
        </p:spPr>
      </p:sp>
      <p:sp>
        <p:nvSpPr>
          <p:cNvPr id="15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this is a difficult thing.  You think Tanna’s idea is silly, of course, but you don’t want to lose her support.  How can you resolve this inner conflic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6520" y="698400"/>
            <a:ext cx="4584960" cy="3492720"/>
          </a:xfrm>
          <a:prstGeom prst="rect">
            <a:avLst/>
          </a:prstGeom>
          <a:ln w="0">
            <a:noFill/>
          </a:ln>
        </p:spPr>
      </p:sp>
      <p:sp>
        <p:nvSpPr>
          <p:cNvPr id="15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you have any last thoughts, now is the time to voice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749600" y="698400"/>
            <a:ext cx="3360600" cy="2560680"/>
          </a:xfrm>
          <a:prstGeom prst="rect">
            <a:avLst/>
          </a:prstGeom>
          <a:ln w="0">
            <a:noFill/>
          </a:ln>
        </p:spPr>
      </p:sp>
      <p:sp>
        <p:nvSpPr>
          <p:cNvPr id="133" name="PlaceHolder 2"/>
          <p:cNvSpPr>
            <a:spLocks noGrp="1"/>
          </p:cNvSpPr>
          <p:nvPr>
            <p:ph type="body"/>
          </p:nvPr>
        </p:nvSpPr>
        <p:spPr>
          <a:xfrm>
            <a:off x="380880" y="3414240"/>
            <a:ext cx="6096240" cy="5200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are Blint, Project Manager.  You came on at the start of the Earth project and reset Eros’ interference halfway through.  You believe that humans are not as dumb as they are made out to be, but the governments of Earth stubbornly refuse to acknowledge the existence of extraterrestrials.  You have been trying and trying to negotiate with humans to stop their unknowing threat.  Humans are on the verge of destroying the entire universe.  They do not understand the ramifications of their own technology.  You know that they can be brought to see the light, but Eros the Insane is trying to destroy them.  War begets war.  Why can he not see t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The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xcellency: The man in charge.  He makes all the decisions and could fire you if he wanted, or worse yet, transfer you to one of the moons of Plu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nna:  Your administrative assistant.  She has proved herself time after time.  Not in the boardroom, mind you, but in the bedroom.  She has managed to keep her position by, ah, taking a few other positions for you, if you know what I mean, and I think you do.  You treat her well, since she’s your only ally at the table, but you wish that she would be a bit more competent as an administrative assis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os:  The bane of your life.  He’s the other project manager and has not only managed to fail with every project assigned to him, you are fairly certain that he has been sabotaging your projects to make you look bad.  Also, he is completely insane.  You half expect him to backhand you out of spite any day n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tlon:  Tech lead.  The technical crew is sometimes a blessing and other times a curse.  When you can get them focused, they perform miracles, but they are all too easily distrac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dira:  Head of Marketing.  She has the worst suggestions ever.  You try not to listen to her, if at all poss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lirt:  Research and Development.  R&amp;D often overreach.  Also their inventions are almost always impractical.  Thus you are left with inventions that have no real use that don’t work well anyw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anter:  Accounting.  Accounting has cut your budget plan after plan.  You think Psanter might have it in for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mal:  Quality Assurance.  Hormal was born to this role.  His attention to detail makes him the perfect QA rep.  It’s a shame that he gets so lost looking at undotted Is and uncrossed Ts that he misses the big pictur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494000" y="698400"/>
            <a:ext cx="3871800" cy="2949840"/>
          </a:xfrm>
          <a:prstGeom prst="rect">
            <a:avLst/>
          </a:prstGeom>
          <a:ln w="0">
            <a:noFill/>
          </a:ln>
        </p:spPr>
      </p:sp>
      <p:sp>
        <p:nvSpPr>
          <p:cNvPr id="135" name="PlaceHolder 2"/>
          <p:cNvSpPr>
            <a:spLocks noGrp="1"/>
          </p:cNvSpPr>
          <p:nvPr>
            <p:ph type="body"/>
          </p:nvPr>
        </p:nvSpPr>
        <p:spPr>
          <a:xfrm>
            <a:off x="685800" y="3881520"/>
            <a:ext cx="5486400" cy="47340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You managed the first plan: to communicate with Dolphins to form an alliance against the humans.  The dolphins had no trouble fashioning a dictorobitary to translate, but they had no interest in helping.  They just wanted to swim in the sea and eat fish.  Further, the dolphins explained that they had tried communicating with humans several times before and the humans would not listen.  The plan was declared a failure.  You aren’t sure who chose dolphins to communicate with; you think it might have been Sandir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roject was hatched when your assistant Tanna noticed that humans watch an inordinate amount of commercial televisor programs.  Plan two was to broadcast a number of entertaining televisor programs in order to catch the humans’ attention – remember the governments of Earth officially denied your existence.  However, while the Humans are quick to develop weapons, they are less able in the dictorobitary field.  The humans didn’t understa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after two attempts to communicate failed, a Space Soldier named Eros was brought in to manage Plan Three.  Plan Three was the final sole attempt to communicate with humans.  Eros had a strategically written classified advertisement placed in all of the major newspapers on Earth.  However, the technical people mistranslated the advertisement resulting in 812 calls for someone named “Gloria,” 246 offers to buy a used call, and three men looking from a masseuse named Roberto.  Humorous, but Eros was furiou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aunted, the Supreme Commander put Eros in charge of Plan Four.  Eros failed.  Spectacularly.  All notes have been lost on Plan Four.  You suspect that Eros had them destroyed.</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6520" y="698400"/>
            <a:ext cx="4584960" cy="3492720"/>
          </a:xfrm>
          <a:prstGeom prst="rect">
            <a:avLst/>
          </a:prstGeom>
          <a:ln w="0">
            <a:noFill/>
          </a:ln>
        </p:spPr>
      </p:sp>
      <p:sp>
        <p:nvSpPr>
          <p:cNvPr id="13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me up with the perfect idea for Plan Five: send Grognar, the friendly interstellar monster to mediate.  Everyone loves Grognar!  But you relied on Marketing to choose the correct city to send Grognar for the biggest impact.  Sandira’s research indicated that Topeka was the perfect place to send Grognar.  Well, it later turned out that Topeka was nowhere near the Humans’ center of power.  Further, the superstitious people there attacked and killed Grognar.  The plan fail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was put in charge of Plan Six.  He had R&amp;D build a number of robots designed to clog the sewer systems of Earth cities.  The robots, however, were flawed and became clogged themselves.  But even if they had succeeded, it wasn’t like that taught the humans of Earth anything.  What was his purpo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aunted, Eros led Plan Seven.  He personally led a small unit of space soldiers to destroy a number of small towns on Earth.  Eros’ warlike plans had no effect.  He used weapons that simulated natural disasters and the humans’ propaganda machine simply publicized them as natural disasters.  A completely wasted eff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kily, you were able to lead Plan Eight.  At this point, the situation had turned dire.  Eros suggested plan Eight, but you had to lead it.  The Plan was to irradiate some of Earth’s native fauna to attack and destroy the most powerful country on Earth: America.  Your mission was sabotaged by accounting.  They only gave you enough budget to irradiate one creature.  How can accomplish anything, with only one mutant monster?  The plan failed and it was all accounting’s faul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6520" y="698400"/>
            <a:ext cx="4584960" cy="3492720"/>
          </a:xfrm>
          <a:prstGeom prst="rect">
            <a:avLst/>
          </a:prstGeom>
          <a:ln w="0">
            <a:noFill/>
          </a:ln>
        </p:spPr>
      </p:sp>
      <p:sp>
        <p:nvSpPr>
          <p:cNvPr id="13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ll Accounting’s fault.  There was the budget.  You tried to negotiate with Psanter, but he would not relent.  You only had enough money for one use, and the rampaging giant Koala was destroyed by Australia’s crack milit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was in charge of managing the budget.  He was unable to properly manage Psanter and our use of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parts that you were in charge of: the Technology and R&amp;D efforts worked perfectly.  Your animal was irradiated and performed some rampaging.  Sure, it could have rampaged better, but you remain convinced and an army of Koalas could have achieved your purpose much bet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6520" y="698400"/>
            <a:ext cx="4584960" cy="3492720"/>
          </a:xfrm>
          <a:prstGeom prst="rect">
            <a:avLst/>
          </a:prstGeom>
          <a:ln w="0">
            <a:noFill/>
          </a:ln>
        </p:spPr>
      </p:sp>
      <p:sp>
        <p:nvSpPr>
          <p:cNvPr id="14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ject manager, you were responsible for overseeing technology and R&amp;D.  You were able to facilitate communication with ease, and the Plan was kept to a reasonable schedule.  Further, marketing considered the creation of a giant, cuddly monster of doom to be a great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successes of this project are all due to the mismanagement of Accounting and the budge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6520" y="698400"/>
            <a:ext cx="4584960" cy="3492720"/>
          </a:xfrm>
          <a:prstGeom prst="rect">
            <a:avLst/>
          </a:prstGeom>
          <a:ln w="0">
            <a:noFill/>
          </a:ln>
        </p:spPr>
      </p:sp>
      <p:sp>
        <p:nvSpPr>
          <p:cNvPr id="14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last chance to get the blame pinned squarely on Eros’  boney shoulders.  Rally the troupes and get hi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6520" y="698400"/>
            <a:ext cx="4584960" cy="3492720"/>
          </a:xfrm>
          <a:prstGeom prst="rect">
            <a:avLst/>
          </a:prstGeom>
          <a:ln w="0">
            <a:noFill/>
          </a:ln>
        </p:spPr>
      </p:sp>
      <p:sp>
        <p:nvSpPr>
          <p:cNvPr id="14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6520" y="698400"/>
            <a:ext cx="4584960" cy="3492720"/>
          </a:xfrm>
          <a:prstGeom prst="rect">
            <a:avLst/>
          </a:prstGeom>
          <a:ln w="0">
            <a:noFill/>
          </a:ln>
        </p:spPr>
      </p:sp>
      <p:sp>
        <p:nvSpPr>
          <p:cNvPr id="14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irt’s plan is too warlike for your tastes.  We should find ways to communicate and work with the humans, not subvert their applia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A0270-B9BB-4B61-911D-20931D412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8AD79-4971-462F-A397-ECF2264A0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50E89-2D30-4CFC-A507-31BA21D00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78135-3397-4295-BB47-AC0E9148D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75F6A-AE8D-4F64-8D22-C477BF630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D701B-0027-49AC-86EF-5C0ABC91B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C81F3-228C-4130-AA96-FB066AE64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AD8F8-4C16-45D9-BDEE-53C4A530E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86F14-EE2C-405D-B805-49D59576F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DD469-497B-4B29-B9D4-3E76F57C1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31066-E149-4FC3-AF89-3CA3237F2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41777-4A61-422F-AEAA-6E64230F5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0565DF-BF00-478A-A9EF-FE884F3E0823}" type="datetime">
              <a:rPr b="0" lang="en-US" sz="1500" spc="-1" strike="noStrike">
                <a:solidFill>
                  <a:srgbClr val="000000"/>
                </a:solidFill>
                <a:latin typeface="Arial"/>
              </a:rPr>
              <a:t>07/29/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9047D8-33A4-4DF1-B7A7-B506F35E5112}"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FD6AC37C-9072-494F-BC5B-8C971473D1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0E0C38E4-295C-48BD-AA55-AB30009675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92B4EFE4-8D96-403A-9637-5BA9947610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8887B48A-CAC0-478F-B3D9-482FDB454F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9CD0CF8B-FE3D-45FB-BCF8-899C2CD3C4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03529D4-8913-4748-9584-B53B521C291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57934EE0-7301-4B0F-962A-D54165300A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5B1CB31D-1DB9-4201-8EB5-97281406C8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20C0FFF-C93E-4A2A-8C6C-019BD49460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D4CAB5A-C75B-4273-A5B9-DBEFF516AE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CFEBC0FC-5B3D-4085-B43D-074E6FF47C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9FFCD280-E9F1-4F13-8ECA-19FDDAB04E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2A762FBD-3C9C-4D5C-AD22-D5D8A5C3BA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D39A93DE-7400-4180-BCBE-5ABF660521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29T16:55:15Z</dcterms:modified>
  <cp:revision>28</cp:revision>
  <dc:subject/>
  <dc:title>Plan Eight From Outer Space</dc:title>
</cp:coreProperties>
</file>