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FD6F-F209-4A56-BB0B-6EC8E8258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of course, no matter what Blint suggests you will disagree with it.  Make sure that Tanna takes </a:t>
            </a:r>
            <a:r>
              <a:rPr b="0" i="1" lang="en-US" sz="1200" spc="-1" strike="noStrike">
                <a:solidFill>
                  <a:srgbClr val="000000"/>
                </a:solidFill>
                <a:latin typeface="Arial"/>
              </a:rPr>
              <a:t>your</a:t>
            </a:r>
            <a:r>
              <a:rPr b="0" lang="en-US" sz="1200" spc="-1" strike="noStrike">
                <a:solidFill>
                  <a:srgbClr val="000000"/>
                </a:solidFill>
                <a:latin typeface="Arial"/>
              </a:rPr>
              <a:t> s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s plan is insane.  How, in any way, does it stop the humans from building Solarbin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an is as simple as it is effective:  Our race has one, and only one, planet buster bomb that we have been saving for emergencies.  This Earth situation is just such an emergency.  Let us use the planet buster bomb to drill down to the Earth’s core and be done with 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is a difficult thing.  You think Tanna’s idea is silly, of course, but you don’t want to lose her support.  Well, if she insists on meddling in a man’s job, you will simply have to put her in her place and get a new assista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have any last thoughts, now is the time to voice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749600" y="698400"/>
            <a:ext cx="3360600" cy="2560680"/>
          </a:xfrm>
          <a:prstGeom prst="rect">
            <a:avLst/>
          </a:prstGeom>
          <a:ln w="0">
            <a:noFill/>
          </a:ln>
        </p:spPr>
      </p:sp>
      <p:sp>
        <p:nvSpPr>
          <p:cNvPr id="133" name="PlaceHolder 2"/>
          <p:cNvSpPr>
            <a:spLocks noGrp="1"/>
          </p:cNvSpPr>
          <p:nvPr>
            <p:ph type="body"/>
          </p:nvPr>
        </p:nvSpPr>
        <p:spPr>
          <a:xfrm>
            <a:off x="380880" y="3414240"/>
            <a:ext cx="6096240" cy="5200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re Eros, Space Soldier turned Project Manager.  You were brought on to the Earth Project midway through when the attempts at diplomacy failed.  Your strong commitment to strength has shown that you mean business.  Unfortunately, the governments of Earth stubbornly refuse to acknowledge the existence of extraterrestrials.  This is not your fault, but at this point you completely believe that the people of Earth have ancient, juvenile minds.  They are on the verge of destroying the entire universe.  They cannot be reasoned with and must be stopped.  You, and you alone, have the only good ideas to stop Earth.  You are correct in all things, and cannot imagine yourself in err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The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xcellency: The man in charge.  He makes all the decisions and could fire you if he wanted, or worse yet, transfer you to one of the moons of Plu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nna:  Your administrative assistant.  You have always believed that women are for advancing the race, not for fighting man’s battle.  Nonetheless, she has proved herself.  Not in the boardroom, mind you, but in the bedroom.  She has managed to keep her position by, ah, taking a few other positions for you, if you know what I mean, and I think you do.  You treat her well for now, since she’s your only ally at the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int:  Your arch nemesis.  He’s the other project manager and has not only managed to fail with every project assigned to him, you are fairly certain that he has been sabotaging your projects to make you look bad.  Besides he is a craven coward and does not have the manliness to attack and destroy the Earthers like you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tlon:  Tech lead.  The technical crew is sometimes a blessing and other times a curse.  When you can get them focused, they perform miracles, but they are all too easily distrac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dira:  Head of Marketing.  She has the worst suggestions ever.  You try not to listen to her, if at all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lirt:  Research and Development.  R&amp;D have great ideas on paper, but they never seem to follow through.  You hate having to deal with one of their “great” inven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nter:  Accounting.  Accounting has cut your budget plan after plan.  You think Psanter might have it in for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al:  Quality Assurance.  Hormal was born to this role.  His attention to detail makes him the perfect QA rep.  It’s a shame that he gets so lost looking at undotted Is and uncrossed Ts that he misses the big pi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they had no interest in helping.  They just wanted to swim in the sea and eat fish.  Further, the dolphins explained that they had tried communicating with humans several times before and the humans would not listen.  The plan was declared a failu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roject was hatched when your assistant Tanna noticed that humans watch an inordinate amount of commercial televisor programs.  Plan two was to broadcast a number of entertaining televisor programs in order to catch the humans’ attention – remember the governments of Earth officially denied your existence.  However, the primitive televisor receivers of Earth were unable to translate the high definition, color signals you broadca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ere brought on for Plan Three.  Plan Three was the final sole attempt to communicate with humans.  You placed a strategically written classified advertisement in all of the major newspapers on Earth.  However, the technical people mistranslated the advertisement resulting in 812 calls for someone named “Gloria,” 246 offers to buy a used call, and three men looking from a masseuse named Roberto.  You were furious that the techs failed you like th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is failure, your nemesis, the other project manager, Blint, was brought on to lead Plan Four.  It was a spectacular disaster, so much so that all records of the plan were lost.  You do all that you can to show that it was Blint’s fault the plan failed.</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Five was also one of Blint’s: send Grognar, the friendly interstellar monster to mediate.  It was, of course, doomed to failure.  Blint failed to send Grognar to an important human city and the ignorant natives of the small town attacked Grognar on sight, killing hi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you were allowed to shine.  A more drastic approach was clearly needed.  Your research indicated that the one thing that humans value over all other is their sanitation.  Thus, you had R&amp;D build a number of robots designed to clog the sewer systems.  However, R&amp;D designed them with a fatal flaw that caused the robots to be clogged themselves.  And, of course, none of the technical crew would go to the sewers to fix the robots.  The plan failed, and – as far as you know – the robots are still t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aunted, you led Plan Seven.  You, personally, led a small unit of space soldiers to destroy a number of small towns on Earth.  You wielded ray guns that caused natural disasters, such as earthquakes and rockslides, to destroy the small towns.  It failed, but it wasn’t your fault.  The ray guns only worked a few times before the broke completely.  R&amp;D blamed accounting.  It is true that the budget was a bit sparse.  Psanter has always tried to sabotage Plans by cutting their budg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int was able to take advantage of the plan’s failure to wrest control from you and lead Plan Eight.  Plan Eight had excellent potential: irradiate some of Earth’s native fauna to attack and destroy the most powerful country on Earth: America.  Blint, however, chose to irradiate a creature that wasn’t native to America.  And again you were sabotaged by Psanter who only allowed the budget to irradiate one creature, that was quickly done away with by the stupid, stupid Earth peopl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ll Blint’s fault.  First, he chose a creature called a Koala.  Koalas are not native to America.  They are native to some small island on the other side of the planet called Australia.  How could he get his facts so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was the budget.  You tried to negotiate with Psanter, but he would not relent.  You only had enough money for one use, and the rampaging giant Koala was destroyed by Australia’s crack milit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he perfect idea for the next Plan.  You </a:t>
            </a:r>
            <a:r>
              <a:rPr b="0" i="1" lang="en-US" sz="1200" spc="-1" strike="noStrike">
                <a:solidFill>
                  <a:srgbClr val="000000"/>
                </a:solidFill>
                <a:latin typeface="Arial"/>
              </a:rPr>
              <a:t>cannot</a:t>
            </a:r>
            <a:r>
              <a:rPr b="0" lang="en-US" sz="1200" spc="-1" strike="noStrike">
                <a:solidFill>
                  <a:srgbClr val="000000"/>
                </a:solidFill>
                <a:latin typeface="Arial"/>
              </a:rPr>
              <a:t> let Blint’s incompetence – or sabotage – to interfere with your leadershi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ject manager, you were responsible for overseeing the budget and marketing.  You were able to facilitate communication with ease, and the Plan was produced under budget.  Further, marketing considered the creation of a giant, cuddly monster of doom to be a great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no anti-successes, of cour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last chance to get the blame pinned squarely on Blint’s boney shoulders.  Rally the troupes and get hi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objection that you have to Vlirt’s plan is that it has no practical application.  Now, if he could convert home appliances to weapons, that would be something else altogether.  The idea of an exploding toaster is strangely appea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52B29-3480-43CA-AD84-A71C0A833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EB6F7-C4AF-4D4F-9520-9D3B63BD6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CAB5E-F7B7-4EC8-9DEA-89618B7D2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0C83A-1985-435A-BE59-48C45C2DD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91ED0-081A-46AA-9334-2F0653B30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415CF-0486-40F1-B4E4-D17C844A4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D6F4E-41A2-46A3-BC48-8FE88CC4C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6A3FF-A9E2-4415-BEEB-777D2D0BB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6E1B4-2C32-49A1-AADE-663B94DDF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92550-5A7E-4FD4-B619-3B13012E6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50671-0894-4D49-9BA5-04BF38CE6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BF85-781D-484B-929B-873289973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219A2D-D8E7-4E7F-BE8C-DEF1ED8F2D83}"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E49BF4-E9B9-4060-B878-2A72139DD28F}"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60827284-E2A0-434A-8AEF-70DCB4ED25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41159614-A4A2-4E22-8465-75C079D08E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ABA69CCA-79B2-44FD-A7C1-0FBA4C8B33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CF59BC53-4BBF-46BE-961F-E5A3033479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9DA3C02D-9224-4603-A672-D3CED04F49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DD5C8FF-BE0E-453B-AB0F-BCB525DF1A7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C552EEEB-B5E8-4C34-BAAE-293D05ABBF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38BBC56-8EB9-4D15-9875-2BB84FA0BF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CA05DC6-9842-48A1-B53D-289887EA4D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5B99639-89D0-485F-B0FF-17D0830699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9D4480C-E65F-4172-A2F1-CF717E9AAD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5CEA199B-471D-493E-8DF7-54701A3DAB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6BB7DA40-C239-41F0-92AC-99EAFA47D8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E62C6161-8D5A-4BCE-80E6-5467ECAD7A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37:38Z</dcterms:modified>
  <cp:revision>22</cp:revision>
  <dc:subject/>
  <dc:title>Plan Eight From Outer Space</dc:title>
</cp:coreProperties>
</file>