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3001-BB2C-43F6-9AD4-20A971FF5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you think Blint is very brave trying to face the stupid humans himself.  Naturally, Eros will try to get you to take his side against Bli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nothing to do with out mission.  Maybe you could imply that Psanter is embezzling with your commen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w.  Eros’ plan is nothing short of insane.  That bomb is supposed to be a deterrent.  It should never be used.  It would make us as bad as the Earthers.  Sigh, you cannot directly express your opposition, but this plan cannot be the one chose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dea is as brilliant as it is simple.  The problem is that humanity is too warlike.  They need to be taught new ideas.  Your plan is use the dictorobitary to create a smash hit Broadway show of intergalactic peace and harmony.  All the humans on Earth love Broadway and they will flock to the show and learn to not be so stupid.  It’s a foolproof pl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have any last thoughts, now is the time to voic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49600" y="698400"/>
            <a:ext cx="3360600" cy="2560680"/>
          </a:xfrm>
          <a:prstGeom prst="rect">
            <a:avLst/>
          </a:prstGeom>
          <a:ln w="0">
            <a:noFill/>
          </a:ln>
        </p:spPr>
      </p:sp>
      <p:sp>
        <p:nvSpPr>
          <p:cNvPr id="133" name="PlaceHolder 2"/>
          <p:cNvSpPr>
            <a:spLocks noGrp="1"/>
          </p:cNvSpPr>
          <p:nvPr>
            <p:ph type="body"/>
          </p:nvPr>
        </p:nvSpPr>
        <p:spPr>
          <a:xfrm>
            <a:off x="380880" y="3414240"/>
            <a:ext cx="6096240" cy="5200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Tanna, Administrative Assistant.  You are, perhaps, the only one with any brains around here.  The two project managers are both failures, and it is only your competence that keeps them from complete disaster.  But do they appreciate your talents?  No!  They only appreciate your talents in the bedroom.  It’s what got you where you are.  Hey, what are you supposed to do?  It’s a man’s galaxy afte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case, you are stuck between Eros and Blint.  They hate each other and keep getting you to take their side.  You have to balance on that tightrope or you could lose your job.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a former Space Soldier and a real chauvinist pig.  However, he could also fire you, so you have to play n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a sniveling craven man who runs from confrontation.  But, again, he could fire you, so you have to play nice to him 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Tech lead.  The technical crew is sometimes a blessing and other times a curse.  </a:t>
            </a:r>
            <a:br>
              <a:rPr sz="1200"/>
            </a:br>
            <a:r>
              <a:rPr b="0" lang="en-US" sz="1200" spc="-1" strike="noStrike">
                <a:solidFill>
                  <a:srgbClr val="000000"/>
                </a:solidFill>
                <a:latin typeface="Arial"/>
              </a:rPr>
              <a:t>Mitlon knows his machinery, but is complete baffled by human rel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Head of Marketing.  She has the worst suggestions ever.  You try not to listen to her, if at all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R&amp;D have great ideas on paper, but they never seem to follow through.  And likewise, Vlirt, is more comfortable around machinery than peop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Psanter can only see money; he never understands the true value of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Hormal was born to this role.  His attention to detail makes him the perfect QA rep.  Well, that and his complete anal-retentiven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they had no interest in helping.  They just wanted to swim in the sea and eat fish.  Further, the dolphins explained that they had tried communicating with humans several times before and the humans would not listen.  The plan was declared a failu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roject was hatched when you noticed that humans watch an inordinate amount of commercial televisor programs.  You convinced Blint to broadcast a number of entertaining televisor programs in order to catch the humans’ attention – remember the governments of Earth officially denied your existence.  It all went wrong, but it wasn’t your fault.  The idea was sound, but Marketing did not realize that humans could not translate your language into theirs and produced an unintelligible (to Earthers) mess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os was brought on for Plan Three.  Plan Three was the final sole attempt to communicate with humans.  Eros placed a strategically written classified advertisement in all of the major newspapers on Earth.  But only a small minority seemed to have read the ad.  Eros blames Marketing, but it was really his bad deci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 has been lost for Plan Four.  Technically, you are supposed to have kept the paperwork, but it became misfiled during your work on Plan Five.  Just keep things moving along, and keep the others sniping at each other and nobody will notice that you misfiled the paperwork for an entire pla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also one of Blint’s: send Grognar, the friendly interstellar monster to mediate.  It was, unfortunately, doomed to failure.  Marketing, once again, chose poorly and they sent Grognar to a small town in the mid west, far away from anyone important.  Marketing just can’t do thei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felt a more drastic approach was needed.  He had R&amp;D build a number of robots designed to clog the sewer systems.  However, R&amp;D designed them with a fatal flaw that caused the robots to be clogged themselves. The plan failed, and – as far as you know – the robots are still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also you led Plan Seven.  He personally led a small unit of space soldiers to destroy a number of small towns on Earth.  The soldiers wielded ray guns that caused natural disasters, such as earthquakes and rockslides, to destroy the small towns.  It failed.  You blame accounting. The budget was a bit sparse.  Psanter has always tried to sabotage Plans by cutting their budget; you’ve often suspected his true loy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ook you to plan Eight, led by Blint.  Plan Eight had excellent potential: irradiate some of Earth’s native fauna to attack and destroy the most powerful country on Earth: America.  Blint made a fatal error in choosing the creature, though.  He chose a koala, which didn’t rampage so much as eat leaves and sleep.  It was destroyed by a military unit and hushed up on Eart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is all hot to see Blint fired for Plan Eight.  Blint wants you to support him in saying that it was Psanter’s fault.  Once again, you are caught in the middle and you have to try to support both Blint and Eros while they are at each other’s thro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a report.  Figures.  You know, if you were promoted to Management, you could do better than both of those bozos put togeth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t’s plan is clever, but what, exactly, is its purpos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D04B3-9EDA-4720-8D50-6D4F00E8D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C852E-DB4D-401E-B377-DD8AB7BE8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C5E20-E628-4F7A-9196-AA710FF95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2D520-F9AE-4076-99B8-6F11721BB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D87AF-EC28-4FFA-842A-E02D3EBF1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4AC22-4040-46DC-81B5-A4582F950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F57EE-73C1-4EE2-A6D7-FDC3C904A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A8A30-BD18-4B21-ACF3-0392460CF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612E2-4339-42F0-AD44-8E6F70B35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F4C5D-5085-4777-91E3-88F9C3D84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C4052-6EC4-4BF0-8E2D-436DD03DB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4B12-E08A-44BD-8904-CF5DDEBC6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BC8CCE-6B21-49A6-A561-323152C82893}" type="datetime">
              <a:rPr b="0" lang="en-US" sz="1500" spc="-1" strike="noStrike">
                <a:solidFill>
                  <a:srgbClr val="000000"/>
                </a:solidFill>
                <a:latin typeface="Arial"/>
              </a:rPr>
              <a:t>07/29/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5C994E-134B-4D54-B0DF-5A00B247DAA6}"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0B5BE3E1-5EC9-46F8-853E-1E7484A1A3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EECFA808-3BAC-4D76-8FC4-F9D212F85F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3FF53F32-8686-4315-950D-DB0099CE2E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9604C379-E856-4572-B894-1164A14FC3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E643B663-3C99-4C27-85CB-5283BD6814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F945445-3BA3-4180-A002-1A65FCC0072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7D4D44D5-841C-4606-8388-D7340A732B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5B71038-FF0B-46E1-A0EF-892D45A599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F410FC5-F2A0-47B0-82C2-F59F3B5D84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866CA2C-104B-436A-A059-BC66DEDF3E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104D2D1-9AC7-407B-89E5-84DFC469E3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EBD756A-1817-4659-A05A-1AAF3E364E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7C2B5AEF-CDCB-433A-9A78-70D0564580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9E0791E9-D0E0-44F9-ABBC-C9E6B7B9AA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55:09Z</dcterms:modified>
  <cp:revision>28</cp:revision>
  <dc:subject/>
  <dc:title>Plan Eight From Outer Space</dc:title>
</cp:coreProperties>
</file>