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58EB-498B-4307-89F4-9409006D6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won’t work.  It needs more technolog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understand this at all.  How does this work again?  It’s all money stuff.  You’re l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You’ve always wanted to see a planet buster bomb in action.  This is the best plan ev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wh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you just got an idea.  Why not transform the electrode guns to shoot particles into the pituitary glands of the recently dead?  Theoretically, this should allow you to control them.  Everyone knows that the Earth people who can think are frightened by those who cannot: the dead.  Plus then you can work the kinks out the electrode guns which tend to jam.  Er, better not mention that p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39920" y="698400"/>
            <a:ext cx="4178160" cy="3183120"/>
          </a:xfrm>
          <a:prstGeom prst="rect">
            <a:avLst/>
          </a:prstGeom>
          <a:ln w="0">
            <a:noFill/>
          </a:ln>
        </p:spPr>
      </p:sp>
      <p:sp>
        <p:nvSpPr>
          <p:cNvPr id="133" name="PlaceHolder 2"/>
          <p:cNvSpPr>
            <a:spLocks noGrp="1"/>
          </p:cNvSpPr>
          <p:nvPr>
            <p:ph type="body"/>
          </p:nvPr>
        </p:nvSpPr>
        <p:spPr>
          <a:xfrm>
            <a:off x="380880" y="4113360"/>
            <a:ext cx="609624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Mitlon, Technical Lead.  You have been working with technology for most of your life.  You understand machines better than people.  You barely know these people, preferring to spend time in your cube in front of an interesting device.  It would not be out of character for you to speak technobable the entire game.  If you happen to have an electric gizmo to play with when you get bored, that would not be out of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get all embarrassed around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You think.  Prob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is cool.  Sometimes after work, the two of you play online video games agains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You hate the QA folks.  Their sole goal is to find problems with your work.  If they were easier to work with, life would be s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built a multi-array progressive televisor satellite which was deployed in a geosynchronous orbit, the most advanced ever produced.  You were especially pleased with your progressive scan algorythms.  However, the humans’ primitive televisor receivers could not decrypt your high-definition sign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M placed a strategically written classified advertisement in all of the major newspapers on Earth.  It didn’t work, probably because they failed to use a technologically appropriat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It was becoming obvious that primitive means of communication just wouldn’t work.  You needed to show technological sup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great!  You still don’t know why it failed.  R&amp;D designed a number of robots to clog the septic systems of Earth.  However, the robots were never tested in an actual sewage system and quickly clogged with effluvium.  Well, your contract does not include field maintenance work, especially odiferous field maintenance work, so you refused to go clean up QA’s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was also great!  You were able to build a number of guns that simulated natural disasters.  You were especially proud of the harmonic vibrations used for rockslides.  But they were not tested for multiple uses, and broke down after four uses.  They said there wasn’t a budget to repai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great as well!  You were able to work with mutagenic radiation, a new technology that you had been reading about on the interstellar networks.  You were able to create a giant monster and it rampaged wonderfully.  You have no idea why it failed.  It must have had something to do with the fact that you were only allowed enough mutagen to create one mons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you had some notes here somewhere.  Maybe they were in a different folder.  Ah, this part is boring anyway.  You’d rather be reading up on the new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 Crew performed admirably.  Despite it being poorly documented and requiring no less than three workarounds, you were able to produce a mutated monster with the radiological mut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some great ideas on control and rampage induction should the plan ever be to use the radiological mutagen ag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What a beauty of an idea.  You love the idea of transformable technology.  This is the best idea y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F1309-A3B1-4610-B21D-A590C9CA9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A06B-958A-4126-B247-18337F0C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C394C-20AC-42E6-B258-ABEB477AB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492E-CF1D-49D2-A593-E5244DCDB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B87B5-9442-496E-B637-4B0E42DA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0439-D1C2-43A3-A4C2-AF630115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E321-B4E4-438A-8680-75E02D81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4851-A46E-404A-98F2-79171C31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920B-86DE-4C7B-A29F-C61572C0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45B8-2CE1-44B9-861C-FB0BEF86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47054-F812-4BFC-83D2-58DEF81F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34D0-9E31-49B3-AED1-3F38456F7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74E758-D56D-4C2A-A0DE-F92BF2AE2BB2}"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D13603-AC16-4736-A6B6-C022CFC98D4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E3AB322-E5C0-4E30-BF0B-B3BEAB3F3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873087B0-2805-42E2-A3FE-94329FCD2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BD83FCD5-6768-42A1-9A1F-3542EC63F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9824563D-8AB4-4767-9F33-83AFFA1AD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78CEE94-7CB8-4B1C-8E8E-E0FA4D0DD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A0FA440-602F-4F51-962D-5924D7DCEE5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D40A2276-B8E1-42FE-A176-04CE7EB4FA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DE99E61-BD1C-40B7-A631-57F3F1C594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1775649-4270-4DAC-B74F-E37F3D6F9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4D90512-D993-4C62-ADE0-DF76D8F43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AAD6790-B8D2-4A69-891B-E08E98EEC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FE35C03-652C-47E8-BD83-7F9FA186D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41522403-08AB-4563-A91D-3049ECBEC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70A55197-BC61-4C64-B48E-B76F6AE47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03Z</dcterms:modified>
  <cp:revision>31</cp:revision>
  <dc:subject/>
  <dc:title>Plan Eight From Outer Space</dc:title>
</cp:coreProperties>
</file>