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9E53-EE9A-472D-BCD3-A01EEB3A0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1600" y="698400"/>
            <a:ext cx="465624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AD3CB-59A7-4C3A-BAB1-D9D33486C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E5E50-19AA-416A-AA00-5C29556D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A92FA-D42A-42E9-9BE0-36FF20DFF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86B61-F8F0-4691-9744-B7BF30EC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34872-B8FA-4CC4-A705-7EFCD551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B4185-DA0F-4C5F-AC2F-4E086B64F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49529-B188-4902-B262-A018465AB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CAD57-017E-4CAF-936F-E899EBF9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F5CC-4456-4418-AC19-EFF0F394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3708-9375-41A5-8445-2B91C1F3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F1EC-16D3-4C37-9AA7-C3C6BEBA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F889-4815-4928-B143-C75A93E78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A6E0-F302-47AC-9867-C1D715E7B16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4A75-BD20-4AD3-8363-0D3F2CD22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From Outer Sp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1752480"/>
            <a:ext cx="6400800" cy="37339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lcom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me Rul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ilosoph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at, or Lack Thereof</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at of the Gam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alve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0" y="5486400"/>
            <a:ext cx="9144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Eight From Outer Space Copyright © 2005, Interactivities In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45F9AB-1F5E-48BB-A3C7-DA76F512C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r: Blint</a:t>
            </a:r>
            <a:endParaRPr b="0" lang="en-US" sz="4400" spc="-1" strike="noStrike">
              <a:solidFill>
                <a:srgbClr val="000000"/>
              </a:solidFill>
              <a:latin typeface="Arial"/>
            </a:endParaRPr>
          </a:p>
        </p:txBody>
      </p:sp>
      <p:pic>
        <p:nvPicPr>
          <p:cNvPr id="121" name="" descr=""/>
          <p:cNvPicPr/>
          <p:nvPr/>
        </p:nvPicPr>
        <p:blipFill>
          <a:blip r:embed="rId1"/>
          <a:stretch/>
        </p:blipFill>
        <p:spPr>
          <a:xfrm>
            <a:off x="3505320" y="2209680"/>
            <a:ext cx="2203200" cy="2481480"/>
          </a:xfrm>
          <a:prstGeom prst="rect">
            <a:avLst/>
          </a:prstGeom>
          <a:ln w="0">
            <a:noFill/>
          </a:ln>
        </p:spPr>
      </p:pic>
      <p:sp>
        <p:nvSpPr>
          <p:cNvPr id="3" name="PlaceHolder 2"/>
          <p:cNvSpPr>
            <a:spLocks noGrp="1"/>
          </p:cNvSpPr>
          <p:nvPr>
            <p:ph type="sldNum" idx="3"/>
          </p:nvPr>
        </p:nvSpPr>
        <p:spPr/>
        <p:txBody>
          <a:bodyPr/>
          <a:p>
            <a:fld id="{A97FE933-7782-4EBC-B1D6-3F14315116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a:t>
            </a:r>
            <a:endParaRPr b="0" lang="en-US" sz="4400" spc="-1" strike="noStrike">
              <a:solidFill>
                <a:srgbClr val="000000"/>
              </a:solidFill>
              <a:latin typeface="Arial"/>
            </a:endParaRPr>
          </a:p>
        </p:txBody>
      </p:sp>
      <p:pic>
        <p:nvPicPr>
          <p:cNvPr id="123" name="" descr=""/>
          <p:cNvPicPr/>
          <p:nvPr/>
        </p:nvPicPr>
        <p:blipFill>
          <a:blip r:embed="rId1"/>
          <a:stretch/>
        </p:blipFill>
        <p:spPr>
          <a:xfrm>
            <a:off x="1828800" y="1600200"/>
            <a:ext cx="5791320" cy="3881520"/>
          </a:xfrm>
          <a:prstGeom prst="rect">
            <a:avLst/>
          </a:prstGeom>
          <a:ln w="0">
            <a:noFill/>
          </a:ln>
        </p:spPr>
      </p:pic>
      <p:sp>
        <p:nvSpPr>
          <p:cNvPr id="3" name="PlaceHolder 2"/>
          <p:cNvSpPr>
            <a:spLocks noGrp="1"/>
          </p:cNvSpPr>
          <p:nvPr>
            <p:ph type="sldNum" idx="3"/>
          </p:nvPr>
        </p:nvSpPr>
        <p:spPr/>
        <p:txBody>
          <a:bodyPr/>
          <a:p>
            <a:fld id="{3AF35364-8D31-4F64-B5DF-F3ECBE3B8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Eros</a:t>
            </a:r>
            <a:endParaRPr b="0" lang="en-US" sz="4400" spc="-1" strike="noStrike">
              <a:solidFill>
                <a:srgbClr val="000000"/>
              </a:solidFill>
              <a:latin typeface="Arial"/>
            </a:endParaRPr>
          </a:p>
        </p:txBody>
      </p:sp>
      <p:pic>
        <p:nvPicPr>
          <p:cNvPr id="125" name="" descr=""/>
          <p:cNvPicPr/>
          <p:nvPr/>
        </p:nvPicPr>
        <p:blipFill>
          <a:blip r:embed="rId1"/>
          <a:stretch/>
        </p:blipFill>
        <p:spPr>
          <a:xfrm>
            <a:off x="2438280" y="1738440"/>
            <a:ext cx="4191120" cy="4174920"/>
          </a:xfrm>
          <a:prstGeom prst="rect">
            <a:avLst/>
          </a:prstGeom>
          <a:ln w="0">
            <a:noFill/>
          </a:ln>
        </p:spPr>
      </p:pic>
      <p:sp>
        <p:nvSpPr>
          <p:cNvPr id="3" name="PlaceHolder 2"/>
          <p:cNvSpPr>
            <a:spLocks noGrp="1"/>
          </p:cNvSpPr>
          <p:nvPr>
            <p:ph type="sldNum" idx="3"/>
          </p:nvPr>
        </p:nvSpPr>
        <p:spPr/>
        <p:txBody>
          <a:bodyPr/>
          <a:p>
            <a:fld id="{B3E12C5A-F1A3-4CBB-9500-C7B7594A3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Assistence</a:t>
            </a:r>
            <a:endParaRPr b="0" lang="en-US" sz="4400" spc="-1" strike="noStrike">
              <a:solidFill>
                <a:srgbClr val="000000"/>
              </a:solidFill>
              <a:latin typeface="Arial"/>
            </a:endParaRPr>
          </a:p>
        </p:txBody>
      </p:sp>
      <p:pic>
        <p:nvPicPr>
          <p:cNvPr id="127" name="" descr=""/>
          <p:cNvPicPr/>
          <p:nvPr/>
        </p:nvPicPr>
        <p:blipFill>
          <a:blip r:embed="rId1"/>
          <a:stretch/>
        </p:blipFill>
        <p:spPr>
          <a:xfrm>
            <a:off x="2625840" y="1676520"/>
            <a:ext cx="3786120" cy="3809880"/>
          </a:xfrm>
          <a:prstGeom prst="rect">
            <a:avLst/>
          </a:prstGeom>
          <a:ln w="0">
            <a:noFill/>
          </a:ln>
        </p:spPr>
      </p:pic>
      <p:sp>
        <p:nvSpPr>
          <p:cNvPr id="3" name="PlaceHolder 2"/>
          <p:cNvSpPr>
            <a:spLocks noGrp="1"/>
          </p:cNvSpPr>
          <p:nvPr>
            <p:ph type="sldNum" idx="3"/>
          </p:nvPr>
        </p:nvSpPr>
        <p:spPr/>
        <p:txBody>
          <a:bodyPr/>
          <a:p>
            <a:fld id="{0B4E1E83-C1E1-48E1-B487-65835D9EC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Decision</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Add Tex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0F716DA-A05C-4449-83F3-3433C9C1DB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Earth Are Stup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Previous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 Who</a:t>
            </a:r>
            <a:endParaRPr b="0" lang="en-US" sz="2800" spc="-1" strike="noStrike">
              <a:solidFill>
                <a:srgbClr val="000000"/>
              </a:solidFill>
              <a:latin typeface="Arial"/>
            </a:endParaRPr>
          </a:p>
        </p:txBody>
      </p:sp>
      <p:pic>
        <p:nvPicPr>
          <p:cNvPr id="53" name="" descr=""/>
          <p:cNvPicPr/>
          <p:nvPr/>
        </p:nvPicPr>
        <p:blipFill>
          <a:blip r:embed="rId1"/>
          <a:stretch/>
        </p:blipFill>
        <p:spPr>
          <a:xfrm>
            <a:off x="4114800" y="3429000"/>
            <a:ext cx="3809880" cy="2297160"/>
          </a:xfrm>
          <a:prstGeom prst="rect">
            <a:avLst/>
          </a:prstGeom>
          <a:ln w="0">
            <a:noFill/>
          </a:ln>
        </p:spPr>
      </p:pic>
      <p:sp>
        <p:nvSpPr>
          <p:cNvPr id="4" name="PlaceHolder 3"/>
          <p:cNvSpPr>
            <a:spLocks noGrp="1"/>
          </p:cNvSpPr>
          <p:nvPr>
            <p:ph type="sldNum" idx="3"/>
          </p:nvPr>
        </p:nvSpPr>
        <p:spPr/>
        <p:txBody>
          <a:bodyPr/>
          <a:p>
            <a:fld id="{937B1468-1B6E-4D63-936E-64E96A18BF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1-4: Communication</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ne:  Dolph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wo:  Televisor Mess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hree:  Classified 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ou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CC813E-E644-415E-A001-E24522D648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5-8: Mediation and Force</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ive:  Grogn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Syst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Several Earth Tow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radiate Earth’s Native Faun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F41927-F9F7-4D35-902D-4EBA582F10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Summar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ttempt to irradiate Earth’s native fauna to grow to giant size and attack and destroy Earth’s most powerful country: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Results:  Failure.  Irradiated Creatures failed to face American military.   No effect upon Earth or its scientific progr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00A493-08FD-4E93-81E8-F1A25CF35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artmental Reports</a:t>
            </a:r>
            <a:br>
              <a:rPr sz="4000"/>
            </a:br>
            <a:r>
              <a:rPr b="0" lang="en-US" sz="2000" spc="-1" strike="noStrike">
                <a:solidFill>
                  <a:srgbClr val="000000"/>
                </a:solidFill>
                <a:latin typeface="Arial"/>
              </a:rPr>
              <a:t>Please include your actual responsibilities, successes and anti-successes.</a:t>
            </a:r>
            <a:endParaRPr b="0" lang="en-US" sz="2000" spc="-1" strike="noStrike">
              <a:solidFill>
                <a:srgbClr val="000000"/>
              </a:solidFill>
              <a:latin typeface="Arial"/>
            </a:endParaRPr>
          </a:p>
        </p:txBody>
      </p:sp>
      <p:sp>
        <p:nvSpPr>
          <p:cNvPr id="6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mp;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A88B08-E253-4213-B699-DB0B1BCFC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ummary And Outco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umma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a:t>
            </a:r>
            <a:endParaRPr b="0" lang="en-US" sz="2800" spc="-1" strike="noStrike">
              <a:solidFill>
                <a:srgbClr val="000000"/>
              </a:solidFill>
              <a:latin typeface="Arial"/>
            </a:endParaRPr>
          </a:p>
        </p:txBody>
      </p:sp>
      <p:grpSp>
        <p:nvGrpSpPr>
          <p:cNvPr id="64" name=""/>
          <p:cNvGrpSpPr/>
          <p:nvPr/>
        </p:nvGrpSpPr>
        <p:grpSpPr>
          <a:xfrm>
            <a:off x="4122720" y="1834560"/>
            <a:ext cx="3957480" cy="3545280"/>
            <a:chOff x="4122720" y="1834560"/>
            <a:chExt cx="3957480" cy="3545280"/>
          </a:xfrm>
        </p:grpSpPr>
        <p:sp>
          <p:nvSpPr>
            <p:cNvPr id="65" name=""/>
            <p:cNvSpPr/>
            <p:nvPr/>
          </p:nvSpPr>
          <p:spPr>
            <a:xfrm>
              <a:off x="4311360" y="4246200"/>
              <a:ext cx="965520" cy="113364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30520" y="5118840"/>
              <a:ext cx="244440" cy="2466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363920" y="4976640"/>
              <a:ext cx="210960" cy="18504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05200" y="4720680"/>
              <a:ext cx="355680" cy="39816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32120" y="4690440"/>
              <a:ext cx="379440" cy="42372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546440" y="4595760"/>
              <a:ext cx="415800" cy="46764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21240" y="4523040"/>
              <a:ext cx="361800" cy="38556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825800" y="4263840"/>
              <a:ext cx="425520" cy="47556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73720" y="4442400"/>
              <a:ext cx="247680" cy="2419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84880" y="4497480"/>
              <a:ext cx="187200" cy="18360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49760" y="4187520"/>
              <a:ext cx="370080" cy="44424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457680" y="4488120"/>
              <a:ext cx="114480" cy="134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929120" y="4374000"/>
              <a:ext cx="230040" cy="23400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43520" y="4388400"/>
              <a:ext cx="198360" cy="20520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97360" y="4320360"/>
              <a:ext cx="163800" cy="15192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64240" y="4285440"/>
              <a:ext cx="174600" cy="1659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9840" y="4268160"/>
              <a:ext cx="152640" cy="14220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86280" y="4198680"/>
              <a:ext cx="125640" cy="12636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23000" y="4222440"/>
              <a:ext cx="66600" cy="6624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4" name=""/>
            <p:cNvSpPr/>
            <p:nvPr/>
          </p:nvSpPr>
          <p:spPr>
            <a:xfrm>
              <a:off x="6729120" y="4231800"/>
              <a:ext cx="49320" cy="4752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 name=""/>
            <p:cNvSpPr/>
            <p:nvPr/>
          </p:nvSpPr>
          <p:spPr>
            <a:xfrm>
              <a:off x="7369200" y="3593160"/>
              <a:ext cx="711000" cy="60552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80000" y="3604320"/>
              <a:ext cx="676440" cy="57348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76440" y="2092320"/>
              <a:ext cx="3222720" cy="204012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287600" y="3075840"/>
              <a:ext cx="3194280" cy="104004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29080" y="2944800"/>
              <a:ext cx="2989080" cy="88380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33720" y="2734200"/>
              <a:ext cx="2146320" cy="62928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7400" y="2102040"/>
              <a:ext cx="1641600" cy="95148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65680" y="2995200"/>
              <a:ext cx="73080" cy="522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a:off x="5410080" y="2756520"/>
              <a:ext cx="584280" cy="24012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81360" y="2837160"/>
              <a:ext cx="454320" cy="8856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 name=""/>
            <p:cNvSpPr/>
            <p:nvPr/>
          </p:nvSpPr>
          <p:spPr>
            <a:xfrm>
              <a:off x="5938560" y="2841840"/>
              <a:ext cx="22320" cy="7128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
            <p:cNvSpPr/>
            <p:nvPr/>
          </p:nvSpPr>
          <p:spPr>
            <a:xfrm>
              <a:off x="7203960" y="1937520"/>
              <a:ext cx="609480" cy="8679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262640" y="2492640"/>
              <a:ext cx="241200" cy="30492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359400" y="2413080"/>
              <a:ext cx="252360" cy="3542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92600" y="2494080"/>
              <a:ext cx="318960" cy="27036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365880" y="2427480"/>
              <a:ext cx="230040" cy="33192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54600" y="2658600"/>
              <a:ext cx="25200" cy="5976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 name=""/>
            <p:cNvSpPr/>
            <p:nvPr/>
          </p:nvSpPr>
          <p:spPr>
            <a:xfrm>
              <a:off x="5722920" y="2666520"/>
              <a:ext cx="15840" cy="4860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3" name=""/>
            <p:cNvSpPr/>
            <p:nvPr/>
          </p:nvSpPr>
          <p:spPr>
            <a:xfrm>
              <a:off x="4122720" y="1834560"/>
              <a:ext cx="766800" cy="8679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0000" y="1848600"/>
              <a:ext cx="733680" cy="84240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240320" y="2617200"/>
              <a:ext cx="47880" cy="4896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6" name=""/>
            <p:cNvSpPr/>
            <p:nvPr/>
          </p:nvSpPr>
          <p:spPr>
            <a:xfrm>
              <a:off x="7315200" y="2452680"/>
              <a:ext cx="79200" cy="13104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217840" y="2289960"/>
              <a:ext cx="298440" cy="29232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234040" y="2294640"/>
              <a:ext cx="260280" cy="27972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488000" y="2187360"/>
              <a:ext cx="228600" cy="2984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14920" y="2150640"/>
              <a:ext cx="249480" cy="30816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65960" y="2124000"/>
              <a:ext cx="249120" cy="28116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48480" y="1945080"/>
              <a:ext cx="253800" cy="30636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50000" y="2043000"/>
              <a:ext cx="111240" cy="1090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667640" y="2044800"/>
              <a:ext cx="83880" cy="9612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75767EB-B6A3-447D-9565-548F3FDED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art Two</a:t>
            </a:r>
            <a:endParaRPr b="0" lang="en-US" sz="6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do we go from her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Black"/>
              </a:rPr>
              <a:t>Do not read these slides until you are told to.</a:t>
            </a:r>
            <a:endParaRPr b="0" lang="en-US" sz="4400" spc="-1" strike="noStrike">
              <a:solidFill>
                <a:srgbClr val="000000"/>
              </a:solidFill>
              <a:latin typeface="Arial"/>
            </a:endParaRPr>
          </a:p>
        </p:txBody>
      </p:sp>
      <p:pic>
        <p:nvPicPr>
          <p:cNvPr id="117" name="" descr=""/>
          <p:cNvPicPr/>
          <p:nvPr/>
        </p:nvPicPr>
        <p:blipFill>
          <a:blip r:embed="rId1"/>
          <a:stretch/>
        </p:blipFill>
        <p:spPr>
          <a:xfrm>
            <a:off x="2287440" y="2895480"/>
            <a:ext cx="4569120" cy="538200"/>
          </a:xfrm>
          <a:prstGeom prst="rect">
            <a:avLst/>
          </a:prstGeom>
          <a:ln w="0">
            <a:noFill/>
          </a:ln>
        </p:spPr>
      </p:pic>
      <p:sp>
        <p:nvSpPr>
          <p:cNvPr id="4" name="PlaceHolder 3"/>
          <p:cNvSpPr>
            <a:spLocks noGrp="1"/>
          </p:cNvSpPr>
          <p:nvPr>
            <p:ph type="sldNum" idx="3"/>
          </p:nvPr>
        </p:nvSpPr>
        <p:spPr/>
        <p:txBody>
          <a:bodyPr/>
          <a:p>
            <a:fld id="{E24A68C6-FEFF-45E8-BBCE-EDD45934F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amp; Development</a:t>
            </a:r>
            <a:endParaRPr b="0" lang="en-US" sz="4400" spc="-1" strike="noStrike">
              <a:solidFill>
                <a:srgbClr val="000000"/>
              </a:solidFill>
              <a:latin typeface="Arial"/>
            </a:endParaRPr>
          </a:p>
        </p:txBody>
      </p:sp>
      <p:pic>
        <p:nvPicPr>
          <p:cNvPr id="119" name="" descr=""/>
          <p:cNvPicPr/>
          <p:nvPr/>
        </p:nvPicPr>
        <p:blipFill>
          <a:blip r:embed="rId1"/>
          <a:stretch/>
        </p:blipFill>
        <p:spPr>
          <a:xfrm>
            <a:off x="2057400" y="1447920"/>
            <a:ext cx="5181480" cy="4349520"/>
          </a:xfrm>
          <a:prstGeom prst="rect">
            <a:avLst/>
          </a:prstGeom>
          <a:ln w="0">
            <a:noFill/>
          </a:ln>
        </p:spPr>
      </p:pic>
      <p:sp>
        <p:nvSpPr>
          <p:cNvPr id="3" name="PlaceHolder 2"/>
          <p:cNvSpPr>
            <a:spLocks noGrp="1"/>
          </p:cNvSpPr>
          <p:nvPr>
            <p:ph type="sldNum" idx="3"/>
          </p:nvPr>
        </p:nvSpPr>
        <p:spPr/>
        <p:txBody>
          <a:bodyPr/>
          <a:p>
            <a:fld id="{6268AFBA-DB12-4FAD-BB2E-1AB0847E5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30T01:27:13Z</dcterms:modified>
  <cp:revision>10</cp:revision>
  <dc:subject/>
  <dc:title>Plan Eight From Outer Space</dc:title>
</cp:coreProperties>
</file>